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C748-DE9C-48CA-B347-C69D6FB24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40E6-FBC1-4AE1-A268-E795A8141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97E9-704A-4283-B00C-DCA2F65DA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2BC6-7807-4746-8B0A-BC58B4522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1ED8-618D-4304-9FB0-190EEE914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1BB1-4D0B-4A3C-8000-111C6A675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4B3F-6B16-4CAB-83ED-BC05B9D66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D09C-DC43-4C59-A6F1-23B71E722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5DC6-30C5-4CF0-BB8E-D2CD82E87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1720-E9C4-4E46-8EF0-46EB7D12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B868-67E2-4138-9B0C-20C9EC99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FBE0-41D7-4DF6-BD82-04C23930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CD114-4182-4CAE-AE4C-53B7171A47C4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project discusses the influence of the variation of the distance between the object we should see and the two lens apparatus such as microscope or a telescope (x) ,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n the distance between the two lens (L) and the magnification (M)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rt the project studies the effect of moving an object with a velocity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x/d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 the variation we must make on the gap between the 2 lens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(dL/dt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lide presents the paths of the optical rays and construction of im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724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lide found a graph that illustrates the effect of (x) variation on the magnification (M) and the gap we must adjust (L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lide 2 photos of the telescope and microsco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843280" y="1484280"/>
            <a:ext cx="533160" cy="3733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12000" y="2133720"/>
            <a:ext cx="533160" cy="237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468000" y="3357720"/>
            <a:ext cx="867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32000" y="148428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757400">
            <a:off x="7740360" y="3357000"/>
            <a:ext cx="380880" cy="1655640"/>
          </a:xfrm>
          <a:prstGeom prst="upArrow">
            <a:avLst>
              <a:gd name="adj1" fmla="val 50000"/>
              <a:gd name="adj2" fmla="val 10867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6300720" y="2852640"/>
            <a:ext cx="2664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6300360" y="2852640"/>
            <a:ext cx="2598840" cy="792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-360" y="5013360"/>
            <a:ext cx="29941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132000" y="2852640"/>
            <a:ext cx="3168720" cy="2089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20000" y="328464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64000" y="328464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0791000">
            <a:off x="8820000" y="2852280"/>
            <a:ext cx="152640" cy="533520"/>
          </a:xfrm>
          <a:prstGeom prst="downArrow">
            <a:avLst>
              <a:gd name="adj1" fmla="val 50000"/>
              <a:gd name="adj2" fmla="val 873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328464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132000" y="3645000"/>
            <a:ext cx="31687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324000" y="3141720"/>
            <a:ext cx="280656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932360" y="3357720"/>
            <a:ext cx="144360" cy="287280"/>
          </a:xfrm>
          <a:prstGeom prst="downArrow">
            <a:avLst>
              <a:gd name="adj1" fmla="val 50000"/>
              <a:gd name="adj2" fmla="val 4975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32000" y="3645000"/>
            <a:ext cx="5327640" cy="1584360"/>
          </a:xfrm>
          <a:custGeom>
            <a:avLst/>
            <a:gdLst/>
            <a:ahLst/>
            <a:rect l="l" t="t" r="r" b="b"/>
            <a:pathLst>
              <a:path w="1398" h="642">
                <a:moveTo>
                  <a:pt x="0" y="0"/>
                </a:moveTo>
                <a:lnTo>
                  <a:pt x="1398" y="642"/>
                </a:lnTo>
              </a:path>
            </a:pathLst>
          </a:custGeom>
          <a:noFill/>
          <a:ln w="57240">
            <a:solidFill>
              <a:srgbClr val="00cc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4941720"/>
            <a:ext cx="5256000" cy="142920"/>
          </a:xfrm>
          <a:custGeom>
            <a:avLst/>
            <a:gdLst/>
            <a:ahLst/>
            <a:rect l="l" t="t" r="r" b="b"/>
            <a:pathLst>
              <a:path w="1398" h="642">
                <a:moveTo>
                  <a:pt x="0" y="0"/>
                </a:moveTo>
                <a:lnTo>
                  <a:pt x="1398" y="642"/>
                </a:lnTo>
              </a:path>
            </a:pathLst>
          </a:custGeom>
          <a:noFill/>
          <a:ln w="57240">
            <a:solidFill>
              <a:srgbClr val="00cc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00720" y="1052640"/>
            <a:ext cx="25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788000" y="1052640"/>
            <a:ext cx="14396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32000" y="1052640"/>
            <a:ext cx="1584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2=L-y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32000" y="5229360"/>
            <a:ext cx="4824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Y2=-25cm= Const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619280" y="3860640"/>
            <a:ext cx="1181160" cy="1019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300720" y="2133720"/>
            <a:ext cx="0" cy="23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03640" y="1700280"/>
            <a:ext cx="3097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050920" y="692280"/>
            <a:ext cx="39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x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∞ so y1=f1,x2=L-f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58920" y="3357720"/>
            <a:ext cx="554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332000" y="189000"/>
            <a:ext cx="59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inding the focal length of the 2 lens set    (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40000" y="4076640"/>
            <a:ext cx="115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79280" y="1125360"/>
                <a:ext cx="324324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∞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y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y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2916360" y="22050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3708360" y="1197000"/>
                <a:ext cx="522468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y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f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f</m:t>
                        </m:r>
                        <m:r>
                          <m:t xml:space="preserve">1</m:t>
                        </m:r>
                        <m:r>
                          <m:t xml:space="preserve">f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900000" y="2060640"/>
                <a:ext cx="18003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f</m:t>
                        </m:r>
                        <m:r>
                          <m:t xml:space="preserve">1</m:t>
                        </m:r>
                        <m:r>
                          <m:t xml:space="preserve">f</m:t>
                        </m:r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f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179280" y="2276640"/>
            <a:ext cx="6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4067280" y="2060640"/>
                <a:ext cx="12398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xc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5867280" y="2060640"/>
                <a:ext cx="258624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o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f</m:t>
                        </m:r>
                        <m:r>
                          <m:t xml:space="preserve">1</m:t>
                        </m:r>
                        <m:r>
                          <m:t xml:space="preserve">f</m:t>
                        </m:r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f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xc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427640" y="5157720"/>
                <a:ext cx="4338360" cy="13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5940360" y="3789360"/>
                <a:ext cx="2905200" cy="11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1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f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3203640" y="3789360"/>
                <a:ext cx="259236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f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1</m:t>
                        </m:r>
                        <m:r>
                          <m:t xml:space="preserve">f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f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f</m:t>
                            </m:r>
                            <m:r>
                              <m:t xml:space="preserve">1</m:t>
                            </m:r>
                            <m:r>
                              <m:t xml:space="preserve">f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79280" y="3789360"/>
                <a:ext cx="288792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xf</m:t>
                        </m:r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xf</m:t>
                        </m:r>
                        <m:r>
                          <m:t xml:space="preserve">1</m:t>
                        </m:r>
                        <m:r>
                          <m:t xml:space="preserve">f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xcf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f</m:t>
                        </m:r>
                        <m:r>
                          <m:t xml:space="preserve">1</m:t>
                        </m:r>
                        <m:r>
                          <m:t xml:space="preserve">f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324000" y="537372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x varies with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3141720"/>
            <a:ext cx="83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Modeling the relation between the gap within the lens and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187280" y="333360"/>
            <a:ext cx="66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ing the relation between magnification and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0" y="1052640"/>
                <a:ext cx="914400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θ</m:t>
                        </m:r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θ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num>
                      <m:den>
                        <m:r>
                          <m:t xml:space="preserve">L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∗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∗</m:t>
                    </m:r>
                    <m:r>
                      <m:t xml:space="preserve">m</m:t>
                    </m:r>
                    <m:r>
                      <m:t xml:space="preserve">1</m:t>
                    </m:r>
                    <m:r>
                      <m:t xml:space="preserve">∗</m:t>
                    </m:r>
                    <m:r>
                      <m:t xml:space="preserve">m</m:t>
                    </m:r>
                    <m:r>
                      <m:t xml:space="preserve">1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∗</m:t>
                    </m:r>
                    <m:f>
                      <m:num>
                        <m:r>
                          <m:t xml:space="preserve">y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∗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324000" y="2276640"/>
                <a:ext cx="3671640" cy="15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xf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1</m:t>
                            </m:r>
                          </m:den>
                        </m:f>
                      </m:num>
                      <m:den>
                        <m:r>
                          <m:t xml:space="preserve">L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xf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1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xf</m:t>
                        </m:r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f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643280" y="2492280"/>
                <a:ext cx="3384720" cy="14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f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2195640" y="4149720"/>
          <a:ext cx="3822480" cy="244476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  <a:gridCol w="609480"/>
                <a:gridCol w="774720"/>
                <a:gridCol w="6094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250920" y="189000"/>
          <a:ext cx="8569080" cy="3843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89000"/>
                    <a:ext cx="8569080" cy="38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4105080" cy="4105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324000" y="40464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escope    C=-25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987800" y="981000"/>
            <a:ext cx="3664080" cy="4896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4932360" y="260280"/>
            <a:ext cx="39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scope     C=-25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5T09:54:40Z</dcterms:created>
  <dc:creator>muayyad</dc:creator>
  <dc:description/>
  <dc:language>en-US</dc:language>
  <cp:lastModifiedBy>muayyad</cp:lastModifiedBy>
  <dcterms:modified xsi:type="dcterms:W3CDTF">2009-12-09T17:47:44Z</dcterms:modified>
  <cp:revision>86</cp:revision>
  <dc:subject/>
  <dc:title>لا يوجد عنوان للشريحة</dc:title>
</cp:coreProperties>
</file>