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FA41-D685-4D24-A438-62EFA0D7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7EC-7A2B-4A1E-B56C-247CDAE6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F6DD-06B6-4685-85C9-4BC57864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4B73-F065-4D21-BCA8-909C8C2E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B40-97B6-4B45-911D-C9595BF8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376-D0A0-43F3-927A-DDAAC69B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33BD-CDA9-42BB-B44B-7D2D9AB9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9287-C2F7-4FCC-9E31-B25B5E0C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1CD-CDD5-4CBE-B5E3-DBC1CB8C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014-E9DD-4D6B-92AA-B8C0037B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EA2B-E511-4D9C-A398-B9CD7D05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605-562B-4019-9A5B-30844AFC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7717-7308-4334-97D9-E15CCC9CE84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152280"/>
            <a:ext cx="464832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عدسات المحدبة والمقعرة والمناش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2819520"/>
            <a:ext cx="3124080" cy="761760"/>
          </a:xfrm>
          <a:custGeom>
            <a:avLst/>
            <a:gdLst>
              <a:gd name="textAreaLeft" fmla="*/ 49320 w 3124080"/>
              <a:gd name="textAreaRight" fmla="*/ 3074760 w 3124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88553" h="21600">
                <a:moveTo>
                  <a:pt x="0" y="0"/>
                </a:moveTo>
                <a:lnTo>
                  <a:pt x="88553" y="0"/>
                </a:lnTo>
                <a:lnTo>
                  <a:pt x="88553" y="21600"/>
                </a:lnTo>
                <a:lnTo>
                  <a:pt x="0" y="21600"/>
                </a:lnTo>
                <a:close/>
              </a:path>
              <a:path fill="lightenLess" w="88553" h="21600">
                <a:moveTo>
                  <a:pt x="0" y="0"/>
                </a:moveTo>
                <a:lnTo>
                  <a:pt x="88553" y="0"/>
                </a:lnTo>
                <a:lnTo>
                  <a:pt x="87153" y="1400"/>
                </a:lnTo>
                <a:lnTo>
                  <a:pt x="1400" y="1400"/>
                </a:lnTo>
                <a:close/>
              </a:path>
              <a:path fill="darken" w="88553" h="21600">
                <a:moveTo>
                  <a:pt x="88553" y="0"/>
                </a:moveTo>
                <a:lnTo>
                  <a:pt x="88553" y="21600"/>
                </a:lnTo>
                <a:lnTo>
                  <a:pt x="87153" y="20200"/>
                </a:lnTo>
                <a:lnTo>
                  <a:pt x="87153" y="1400"/>
                </a:lnTo>
                <a:close/>
              </a:path>
              <a:path fill="darkenLess" w="88553" h="21600">
                <a:moveTo>
                  <a:pt x="88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153" y="20200"/>
                </a:lnTo>
                <a:close/>
              </a:path>
              <a:path fill="lighten" w="88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نشور الحارف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4191120"/>
            <a:ext cx="3124080" cy="761760"/>
          </a:xfrm>
          <a:custGeom>
            <a:avLst/>
            <a:gdLst>
              <a:gd name="textAreaLeft" fmla="*/ 49320 w 3124080"/>
              <a:gd name="textAreaRight" fmla="*/ 3074760 w 3124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88553" h="21600">
                <a:moveTo>
                  <a:pt x="0" y="0"/>
                </a:moveTo>
                <a:lnTo>
                  <a:pt x="88553" y="0"/>
                </a:lnTo>
                <a:lnTo>
                  <a:pt x="88553" y="21600"/>
                </a:lnTo>
                <a:lnTo>
                  <a:pt x="0" y="21600"/>
                </a:lnTo>
                <a:close/>
              </a:path>
              <a:path fill="lightenLess" w="88553" h="21600">
                <a:moveTo>
                  <a:pt x="0" y="0"/>
                </a:moveTo>
                <a:lnTo>
                  <a:pt x="88553" y="0"/>
                </a:lnTo>
                <a:lnTo>
                  <a:pt x="87153" y="1400"/>
                </a:lnTo>
                <a:lnTo>
                  <a:pt x="1400" y="1400"/>
                </a:lnTo>
                <a:close/>
              </a:path>
              <a:path fill="darken" w="88553" h="21600">
                <a:moveTo>
                  <a:pt x="88553" y="0"/>
                </a:moveTo>
                <a:lnTo>
                  <a:pt x="88553" y="21600"/>
                </a:lnTo>
                <a:lnTo>
                  <a:pt x="87153" y="20200"/>
                </a:lnTo>
                <a:lnTo>
                  <a:pt x="87153" y="1400"/>
                </a:lnTo>
                <a:close/>
              </a:path>
              <a:path fill="darkenLess" w="88553" h="21600">
                <a:moveTo>
                  <a:pt x="88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153" y="20200"/>
                </a:lnTo>
                <a:close/>
              </a:path>
              <a:path fill="lighten" w="88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عدسة المحدب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5638680"/>
            <a:ext cx="3124080" cy="762120"/>
          </a:xfrm>
          <a:custGeom>
            <a:avLst/>
            <a:gdLst>
              <a:gd name="textAreaLeft" fmla="*/ 49320 w 3124080"/>
              <a:gd name="textAreaRight" fmla="*/ 3074760 w 3124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88511" h="21600">
                <a:moveTo>
                  <a:pt x="0" y="0"/>
                </a:moveTo>
                <a:lnTo>
                  <a:pt x="88511" y="0"/>
                </a:lnTo>
                <a:lnTo>
                  <a:pt x="88511" y="21600"/>
                </a:lnTo>
                <a:lnTo>
                  <a:pt x="0" y="21600"/>
                </a:lnTo>
                <a:close/>
              </a:path>
              <a:path fill="lightenLess" w="88511" h="21600">
                <a:moveTo>
                  <a:pt x="0" y="0"/>
                </a:moveTo>
                <a:lnTo>
                  <a:pt x="88511" y="0"/>
                </a:lnTo>
                <a:lnTo>
                  <a:pt x="87111" y="1400"/>
                </a:lnTo>
                <a:lnTo>
                  <a:pt x="1400" y="1400"/>
                </a:lnTo>
                <a:close/>
              </a:path>
              <a:path fill="darken" w="88511" h="21600">
                <a:moveTo>
                  <a:pt x="88511" y="0"/>
                </a:moveTo>
                <a:lnTo>
                  <a:pt x="88511" y="21600"/>
                </a:lnTo>
                <a:lnTo>
                  <a:pt x="87111" y="20200"/>
                </a:lnTo>
                <a:lnTo>
                  <a:pt x="87111" y="1400"/>
                </a:lnTo>
                <a:close/>
              </a:path>
              <a:path fill="darkenLess" w="88511" h="21600">
                <a:moveTo>
                  <a:pt x="88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111" y="20200"/>
                </a:lnTo>
                <a:close/>
              </a:path>
              <a:path fill="lighten" w="88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عدسة المحدب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1600200"/>
            <a:ext cx="3124080" cy="762120"/>
          </a:xfrm>
          <a:custGeom>
            <a:avLst/>
            <a:gdLst>
              <a:gd name="textAreaLeft" fmla="*/ 49320 w 3124080"/>
              <a:gd name="textAreaRight" fmla="*/ 3074760 w 3124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88511" h="21600">
                <a:moveTo>
                  <a:pt x="0" y="0"/>
                </a:moveTo>
                <a:lnTo>
                  <a:pt x="88511" y="0"/>
                </a:lnTo>
                <a:lnTo>
                  <a:pt x="88511" y="21600"/>
                </a:lnTo>
                <a:lnTo>
                  <a:pt x="0" y="21600"/>
                </a:lnTo>
                <a:close/>
              </a:path>
              <a:path fill="lightenLess" w="88511" h="21600">
                <a:moveTo>
                  <a:pt x="0" y="0"/>
                </a:moveTo>
                <a:lnTo>
                  <a:pt x="88511" y="0"/>
                </a:lnTo>
                <a:lnTo>
                  <a:pt x="87111" y="1400"/>
                </a:lnTo>
                <a:lnTo>
                  <a:pt x="1400" y="1400"/>
                </a:lnTo>
                <a:close/>
              </a:path>
              <a:path fill="darken" w="88511" h="21600">
                <a:moveTo>
                  <a:pt x="88511" y="0"/>
                </a:moveTo>
                <a:lnTo>
                  <a:pt x="88511" y="21600"/>
                </a:lnTo>
                <a:lnTo>
                  <a:pt x="87111" y="20200"/>
                </a:lnTo>
                <a:lnTo>
                  <a:pt x="87111" y="1400"/>
                </a:lnTo>
                <a:close/>
              </a:path>
              <a:path fill="darkenLess" w="88511" h="21600">
                <a:moveTo>
                  <a:pt x="88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111" y="20200"/>
                </a:lnTo>
                <a:close/>
              </a:path>
              <a:path fill="lighten" w="88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نشور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حارف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6477120" y="2819520"/>
            <a:ext cx="2133360" cy="761760"/>
          </a:xfrm>
          <a:custGeom>
            <a:avLst/>
            <a:gdLst>
              <a:gd name="textAreaLeft" fmla="*/ 49320 w 2133360"/>
              <a:gd name="textAreaRight" fmla="*/ 2084040 w 21333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0474" h="21600">
                <a:moveTo>
                  <a:pt x="0" y="0"/>
                </a:moveTo>
                <a:lnTo>
                  <a:pt x="60474" y="0"/>
                </a:lnTo>
                <a:lnTo>
                  <a:pt x="60474" y="21600"/>
                </a:lnTo>
                <a:lnTo>
                  <a:pt x="0" y="21600"/>
                </a:lnTo>
                <a:close/>
              </a:path>
              <a:path fill="lightenLess" w="60474" h="21600">
                <a:moveTo>
                  <a:pt x="0" y="0"/>
                </a:moveTo>
                <a:lnTo>
                  <a:pt x="60474" y="0"/>
                </a:lnTo>
                <a:lnTo>
                  <a:pt x="59074" y="1400"/>
                </a:lnTo>
                <a:lnTo>
                  <a:pt x="1400" y="1400"/>
                </a:lnTo>
                <a:close/>
              </a:path>
              <a:path fill="darken" w="60474" h="21600">
                <a:moveTo>
                  <a:pt x="60474" y="0"/>
                </a:moveTo>
                <a:lnTo>
                  <a:pt x="60474" y="21600"/>
                </a:lnTo>
                <a:lnTo>
                  <a:pt x="59074" y="20200"/>
                </a:lnTo>
                <a:lnTo>
                  <a:pt x="59074" y="1400"/>
                </a:lnTo>
                <a:close/>
              </a:path>
              <a:path fill="darkenLess" w="60474" h="21600">
                <a:moveTo>
                  <a:pt x="60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4" y="20200"/>
                </a:lnTo>
                <a:close/>
              </a:path>
              <a:path fill="lighten" w="60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لى ضعف البع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بؤ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6477120" y="4191120"/>
            <a:ext cx="2133360" cy="761760"/>
          </a:xfrm>
          <a:custGeom>
            <a:avLst/>
            <a:gdLst>
              <a:gd name="textAreaLeft" fmla="*/ 49320 w 2133360"/>
              <a:gd name="textAreaRight" fmla="*/ 2084040 w 21333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0474" h="21600">
                <a:moveTo>
                  <a:pt x="0" y="0"/>
                </a:moveTo>
                <a:lnTo>
                  <a:pt x="60474" y="0"/>
                </a:lnTo>
                <a:lnTo>
                  <a:pt x="60474" y="21600"/>
                </a:lnTo>
                <a:lnTo>
                  <a:pt x="0" y="21600"/>
                </a:lnTo>
                <a:close/>
              </a:path>
              <a:path fill="lightenLess" w="60474" h="21600">
                <a:moveTo>
                  <a:pt x="0" y="0"/>
                </a:moveTo>
                <a:lnTo>
                  <a:pt x="60474" y="0"/>
                </a:lnTo>
                <a:lnTo>
                  <a:pt x="59074" y="1400"/>
                </a:lnTo>
                <a:lnTo>
                  <a:pt x="1400" y="1400"/>
                </a:lnTo>
                <a:close/>
              </a:path>
              <a:path fill="darken" w="60474" h="21600">
                <a:moveTo>
                  <a:pt x="60474" y="0"/>
                </a:moveTo>
                <a:lnTo>
                  <a:pt x="60474" y="21600"/>
                </a:lnTo>
                <a:lnTo>
                  <a:pt x="59074" y="20200"/>
                </a:lnTo>
                <a:lnTo>
                  <a:pt x="59074" y="1400"/>
                </a:lnTo>
                <a:close/>
              </a:path>
              <a:path fill="darkenLess" w="60474" h="21600">
                <a:moveTo>
                  <a:pt x="60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4" y="20200"/>
                </a:lnTo>
                <a:close/>
              </a:path>
              <a:path fill="lighten" w="60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بين البؤرة وضعف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5638680"/>
            <a:ext cx="2133360" cy="762120"/>
          </a:xfrm>
          <a:custGeom>
            <a:avLst/>
            <a:gdLst>
              <a:gd name="textAreaLeft" fmla="*/ 49320 w 2133360"/>
              <a:gd name="textAreaRight" fmla="*/ 2084040 w 2133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0445" h="21600">
                <a:moveTo>
                  <a:pt x="0" y="0"/>
                </a:moveTo>
                <a:lnTo>
                  <a:pt x="60445" y="0"/>
                </a:lnTo>
                <a:lnTo>
                  <a:pt x="60445" y="21600"/>
                </a:lnTo>
                <a:lnTo>
                  <a:pt x="0" y="21600"/>
                </a:lnTo>
                <a:close/>
              </a:path>
              <a:path fill="lightenLess" w="60445" h="21600">
                <a:moveTo>
                  <a:pt x="0" y="0"/>
                </a:moveTo>
                <a:lnTo>
                  <a:pt x="60445" y="0"/>
                </a:lnTo>
                <a:lnTo>
                  <a:pt x="59045" y="1400"/>
                </a:lnTo>
                <a:lnTo>
                  <a:pt x="1400" y="1400"/>
                </a:lnTo>
                <a:close/>
              </a:path>
              <a:path fill="darken" w="60445" h="21600">
                <a:moveTo>
                  <a:pt x="60445" y="0"/>
                </a:moveTo>
                <a:lnTo>
                  <a:pt x="60445" y="21600"/>
                </a:lnTo>
                <a:lnTo>
                  <a:pt x="59045" y="20200"/>
                </a:lnTo>
                <a:lnTo>
                  <a:pt x="59045" y="1400"/>
                </a:lnTo>
                <a:close/>
              </a:path>
              <a:path fill="darkenLess" w="60445" h="21600">
                <a:moveTo>
                  <a:pt x="60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45" y="20200"/>
                </a:lnTo>
                <a:close/>
              </a:path>
              <a:path fill="lighten" w="60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في البؤ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2133720" cy="762120"/>
          </a:xfrm>
          <a:custGeom>
            <a:avLst/>
            <a:gdLst>
              <a:gd name="textAreaLeft" fmla="*/ 49320 w 2133720"/>
              <a:gd name="textAreaRight" fmla="*/ 2084400 w 2133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عدسة المقعر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895480"/>
            <a:ext cx="2133720" cy="762120"/>
          </a:xfrm>
          <a:custGeom>
            <a:avLst/>
            <a:gdLst>
              <a:gd name="textAreaLeft" fmla="*/ 49320 w 2133720"/>
              <a:gd name="textAreaRight" fmla="*/ 2084400 w 2133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عدسة المقعر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267080"/>
            <a:ext cx="2133720" cy="762120"/>
          </a:xfrm>
          <a:custGeom>
            <a:avLst/>
            <a:gdLst>
              <a:gd name="textAreaLeft" fmla="*/ 49320 w 2133720"/>
              <a:gd name="textAreaRight" fmla="*/ 2084400 w 2133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صور العدسة المقعرة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638680"/>
            <a:ext cx="2133720" cy="762120"/>
          </a:xfrm>
          <a:custGeom>
            <a:avLst/>
            <a:gdLst>
              <a:gd name="textAreaLeft" fmla="*/ 49320 w 2133720"/>
              <a:gd name="textAreaRight" fmla="*/ 2084400 w 2133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بين البؤرة والعد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6477120" y="1600200"/>
            <a:ext cx="2133360" cy="685800"/>
          </a:xfrm>
          <a:custGeom>
            <a:avLst/>
            <a:gdLst>
              <a:gd name="textAreaLeft" fmla="*/ 44280 w 2133360"/>
              <a:gd name="textAreaRight" fmla="*/ 2089080 w 2133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7169" h="21600">
                <a:moveTo>
                  <a:pt x="0" y="0"/>
                </a:moveTo>
                <a:lnTo>
                  <a:pt x="67169" y="0"/>
                </a:lnTo>
                <a:lnTo>
                  <a:pt x="67169" y="21600"/>
                </a:lnTo>
                <a:lnTo>
                  <a:pt x="0" y="21600"/>
                </a:lnTo>
                <a:close/>
              </a:path>
              <a:path fill="lightenLess" w="67169" h="21600">
                <a:moveTo>
                  <a:pt x="0" y="0"/>
                </a:moveTo>
                <a:lnTo>
                  <a:pt x="67169" y="0"/>
                </a:lnTo>
                <a:lnTo>
                  <a:pt x="65769" y="1400"/>
                </a:lnTo>
                <a:lnTo>
                  <a:pt x="1400" y="1400"/>
                </a:lnTo>
                <a:close/>
              </a:path>
              <a:path fill="darken" w="67169" h="21600">
                <a:moveTo>
                  <a:pt x="67169" y="0"/>
                </a:moveTo>
                <a:lnTo>
                  <a:pt x="67169" y="21600"/>
                </a:lnTo>
                <a:lnTo>
                  <a:pt x="65769" y="20200"/>
                </a:lnTo>
                <a:lnTo>
                  <a:pt x="65769" y="1400"/>
                </a:lnTo>
                <a:close/>
              </a:path>
              <a:path fill="darkenLess" w="67169" h="21600">
                <a:moveTo>
                  <a:pt x="67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769" y="20200"/>
                </a:lnTo>
                <a:close/>
              </a:path>
              <a:path fill="lighten" w="67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جسم بع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9907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نقر على الموضوع الذي ترغب في اجراء عرض توضيحي 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4038480" y="1371600"/>
          <a:ext cx="5810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371600"/>
                    <a:ext cx="5810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 flipH="1">
            <a:off x="456840" y="3352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43400" y="14479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267080" y="2057400"/>
            <a:ext cx="38102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971800" y="533160"/>
            <a:ext cx="1295280" cy="15238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419720" y="457200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33160" y="3352680"/>
            <a:ext cx="37335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343400" y="3352680"/>
            <a:ext cx="37339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419360" y="3962520"/>
            <a:ext cx="37335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343400" y="2514600"/>
            <a:ext cx="37339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285640" y="4572000"/>
            <a:ext cx="1981080" cy="19051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981080" y="3962520"/>
            <a:ext cx="2286000" cy="1295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2133360" y="1219320"/>
            <a:ext cx="2057400" cy="1295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28600" y="42670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33520" y="449568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نقر هنا لعرض فيديو توضيح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304920"/>
            <a:ext cx="2971800" cy="10688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عدسة المقع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500"/>
                            </p:stCondLst>
                            <p:childTnLst>
                              <p:par>
                                <p:cTn id="43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3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4038480" y="1371600"/>
          <a:ext cx="5810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371600"/>
                    <a:ext cx="5810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 flipH="1">
            <a:off x="456840" y="3352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43400" y="14479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96080" y="1981080"/>
            <a:ext cx="457200" cy="13716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267080" y="205740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2971800" y="533160"/>
            <a:ext cx="1295280" cy="1523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33160" y="3048120"/>
            <a:ext cx="3733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267080" y="1981080"/>
            <a:ext cx="365760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0711800">
            <a:off x="4952880" y="3047760"/>
            <a:ext cx="76320" cy="304560"/>
          </a:xfrm>
          <a:prstGeom prst="downArrow">
            <a:avLst>
              <a:gd name="adj1" fmla="val 50000"/>
              <a:gd name="adj2" fmla="val 99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80880" y="2057400"/>
            <a:ext cx="7467840" cy="2666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2133720"/>
            <a:ext cx="1828800" cy="25146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3048120"/>
            <a:ext cx="31240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5410080" y="398160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943600" y="42670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نقر هنا لعرض فيديو توضيح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380880"/>
            <a:ext cx="472428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صورة:-  معتدلة ، مصغرة ، خي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1066680"/>
            <a:ext cx="44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الشعاع الموازي للمحور ينكسر وكأنه قادم من البؤ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4479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تجه نحو البؤرة ينكسر موازيا للمح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304920"/>
            <a:ext cx="2971800" cy="10688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عدسة المقع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58672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ار بالمركز لا ينح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4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5" dur="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038480" y="1371600"/>
          <a:ext cx="5810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371600"/>
                    <a:ext cx="5810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 flipH="1">
            <a:off x="456840" y="3352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3400" y="14479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2362320"/>
            <a:ext cx="304920" cy="990360"/>
          </a:xfrm>
          <a:prstGeom prst="upArrow">
            <a:avLst>
              <a:gd name="adj1" fmla="val 50000"/>
              <a:gd name="adj2" fmla="val 811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267080" y="236232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2971800" y="533520"/>
            <a:ext cx="137160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33160" y="3048120"/>
            <a:ext cx="3733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266720" y="2362320"/>
            <a:ext cx="175284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0711800">
            <a:off x="4876560" y="3047400"/>
            <a:ext cx="75960" cy="306360"/>
          </a:xfrm>
          <a:prstGeom prst="downArrow">
            <a:avLst>
              <a:gd name="adj1" fmla="val 50000"/>
              <a:gd name="adj2" fmla="val 1008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142640" y="2362320"/>
            <a:ext cx="4876920" cy="2971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9720" y="2438280"/>
            <a:ext cx="1752480" cy="22100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3048120"/>
            <a:ext cx="31240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5791320" y="426708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09588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نقر هنا لعرض فيديو توضيح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62720" y="304920"/>
            <a:ext cx="2971800" cy="10688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عدسة المقع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380880"/>
            <a:ext cx="472428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صورة:-  معتدلة ، مصغرة ، خي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1066680"/>
            <a:ext cx="44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الشعاع الموازي للمحور ينكسر وكأنه قادم من البؤ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14479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تجه نحو البؤرة ينكسر موازيا للمح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rId4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6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400800" y="1219320"/>
            <a:ext cx="0" cy="2819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743200" y="4038480"/>
            <a:ext cx="3657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743200" y="1219320"/>
            <a:ext cx="3657600" cy="2819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572000" y="2590920"/>
            <a:ext cx="2743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2590920"/>
            <a:ext cx="0" cy="28191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86200" y="1981080"/>
            <a:ext cx="1447920" cy="12193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09480" y="45720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نقر هنا لعرض فيديو توضيح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52880" y="228600"/>
            <a:ext cx="358164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منشور الحارف (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2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400800" y="1219320"/>
            <a:ext cx="0" cy="2819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743200" y="4038480"/>
            <a:ext cx="3657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743200" y="1219320"/>
            <a:ext cx="3657600" cy="2819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00600" y="685800"/>
            <a:ext cx="1676520" cy="1828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343040" y="2514600"/>
            <a:ext cx="2057400" cy="1523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43400" y="3429000"/>
            <a:ext cx="0" cy="1295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62720" y="2514600"/>
            <a:ext cx="1523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666520" y="1980720"/>
            <a:ext cx="1676520" cy="2057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8672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1722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نقر هنا لعرض فيديو توضيح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609480"/>
            <a:ext cx="358128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منشور الحارف (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18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rId2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5" dur="1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62520" y="1523880"/>
            <a:ext cx="533160" cy="373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56840" y="3352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114800" y="24382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91120" y="28954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191120" y="33526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191120" y="38098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191120" y="42670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191120" y="47242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191120" y="1981080"/>
            <a:ext cx="3581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1599840" y="2361960"/>
            <a:ext cx="2590920" cy="1447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599840" y="2438280"/>
            <a:ext cx="2514600" cy="3048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2362320" y="1676520"/>
            <a:ext cx="1828800" cy="3047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33520" y="33526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066320" y="2895480"/>
            <a:ext cx="3048120" cy="1752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209680" y="1905120"/>
            <a:ext cx="1981440" cy="3504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828800" y="1752120"/>
            <a:ext cx="2362320" cy="25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867280" y="4267080"/>
            <a:ext cx="3048120" cy="2286000"/>
          </a:xfrm>
          <a:prstGeom prst="rect">
            <a:avLst/>
          </a:prstGeom>
          <a:ln w="57240">
            <a:solidFill>
              <a:srgbClr val="3333cc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1143000" y="533520"/>
            <a:ext cx="6477120" cy="106884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الاشعة الموازية للمحور تنكسر مارة بالبؤ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62520" y="1523880"/>
            <a:ext cx="533160" cy="373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56840" y="3352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114800" y="24382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191120" y="28954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191120" y="33526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191120" y="38098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191120" y="42670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191120" y="47242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191120" y="1981080"/>
            <a:ext cx="35812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599840" y="2361960"/>
            <a:ext cx="2590920" cy="14475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599840" y="2438280"/>
            <a:ext cx="2514600" cy="30481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362320" y="1676520"/>
            <a:ext cx="1828800" cy="3047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33520" y="33526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066320" y="2895480"/>
            <a:ext cx="3048120" cy="17528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209680" y="1905120"/>
            <a:ext cx="1981440" cy="35049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828800" y="1752120"/>
            <a:ext cx="2362320" cy="25146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8672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228600"/>
            <a:ext cx="8534520" cy="94716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مبدأ ارتداد الضوء: الاشعة القادمة من البؤرة تنكسر موازية للمحو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62520" y="1523880"/>
            <a:ext cx="533160" cy="373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56840" y="3352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1981080"/>
            <a:ext cx="457200" cy="13716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267080" y="205740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447560" y="2057400"/>
            <a:ext cx="2819160" cy="4114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160" y="3886200"/>
            <a:ext cx="3733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267080" y="1981080"/>
            <a:ext cx="3657600" cy="1905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335268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0880" y="2057400"/>
            <a:ext cx="7467840" cy="2819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486400" y="228600"/>
            <a:ext cx="3352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جسم بعيد (س&gt;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ع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 rot="228000">
            <a:off x="5562360" y="6019920"/>
            <a:ext cx="3352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استخدام : الكاميرا او العي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33920" y="10666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وازي للمحور ينكسر مارا في البؤ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9810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ار بالمركز لا ينح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57913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ار في البؤرة ينكسر موازيا للمح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8600"/>
            <a:ext cx="472428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صورة:-  مقلوبة ، مصغرة ، حقيق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365760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نقر هنا لعرض فيديو توضيح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62520" y="1523880"/>
            <a:ext cx="533160" cy="373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56840" y="3352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981080"/>
            <a:ext cx="457200" cy="13716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266720" y="2057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447560" y="2057400"/>
            <a:ext cx="2819160" cy="4114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33160" y="4495680"/>
            <a:ext cx="3733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266720" y="2057400"/>
            <a:ext cx="2057400" cy="25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352680"/>
            <a:ext cx="457200" cy="1219320"/>
          </a:xfrm>
          <a:prstGeom prst="downArrow">
            <a:avLst>
              <a:gd name="adj1" fmla="val 50000"/>
              <a:gd name="adj2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61760" y="2057400"/>
            <a:ext cx="5562360" cy="3581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257800" y="228600"/>
            <a:ext cx="3657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جسم على ضعف البعد البؤري (س=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ع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 rot="228000">
            <a:off x="5410080" y="6095880"/>
            <a:ext cx="35053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استخدام : المرقاب الفلكي-لقلب الصور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5880" y="3429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358128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نقر هنا لعرض فيديو توضيح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28600"/>
            <a:ext cx="472428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صورة:-  مقلوبة ، مساوية ، حقيق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10666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وازي للمحور ينكسر مارا في البؤ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9810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ار بالمركز لا ينح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57913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ار في البؤرة ينكسر موازيا للمح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62520" y="1523880"/>
            <a:ext cx="533160" cy="373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56840" y="3352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0757400">
            <a:off x="759960" y="3350880"/>
            <a:ext cx="381240" cy="1447920"/>
          </a:xfrm>
          <a:prstGeom prst="upArrow">
            <a:avLst>
              <a:gd name="adj1" fmla="val 50000"/>
              <a:gd name="adj2" fmla="val 949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267080" y="2819520"/>
            <a:ext cx="1371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8600" y="2819520"/>
            <a:ext cx="4038480" cy="2361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28600" y="4800600"/>
            <a:ext cx="4038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267080" y="2819520"/>
            <a:ext cx="1371600" cy="1981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34120" y="304920"/>
            <a:ext cx="3581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جسم بين البؤرة وضعفها (ع&lt; س&lt;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ع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 rot="228000">
            <a:off x="609480" y="5715000"/>
            <a:ext cx="3810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استخدام : القاذف الضوئ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3" name=""/>
          <p:cNvSpPr/>
          <p:nvPr/>
        </p:nvSpPr>
        <p:spPr>
          <a:xfrm rot="10791000">
            <a:off x="5562360" y="281880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095880" y="457200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نقر هنا لعرض فيديو توضيح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228600"/>
            <a:ext cx="472428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صورة:-  مقلوبة ، مكبرة ، حقيق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10666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وازي للمحور ينكسر مارا في البؤ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2193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ار في البؤرة ينكسر موازيا للمح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0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962520" y="1523880"/>
            <a:ext cx="533160" cy="373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56840" y="3352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2438280"/>
            <a:ext cx="304560" cy="914400"/>
          </a:xfrm>
          <a:prstGeom prst="upArrow">
            <a:avLst>
              <a:gd name="adj1" fmla="val 50000"/>
              <a:gd name="adj2" fmla="val 7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267080" y="243828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62120" y="2438280"/>
            <a:ext cx="3504960" cy="3429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828440" y="2514600"/>
            <a:ext cx="3429000" cy="3429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638680" y="304920"/>
            <a:ext cx="3200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جسم في البؤرة (س=ع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0" y="5943600"/>
            <a:ext cx="4114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"/>
              </a:rPr>
              <a:t>يستخدم ذلك في الكشافات الضوئي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248520" y="129528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نقر هنا لعرض فيديو توضيح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228600"/>
            <a:ext cx="4724280" cy="13737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هنا لا تتكون صورة لان الاشعة المنكسرة لا تتقا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67652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وازي للمحور ينكسر مارا في البؤ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37339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ار بالمركز لا ينح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3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962520" y="1523880"/>
            <a:ext cx="533160" cy="373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56840" y="3352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274320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267080" y="27432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133720" y="2743200"/>
            <a:ext cx="2133360" cy="1371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33160" y="1905120"/>
            <a:ext cx="3733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267080" y="1828800"/>
            <a:ext cx="53352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0776000">
            <a:off x="5486040" y="1904400"/>
            <a:ext cx="295200" cy="1447560"/>
          </a:xfrm>
          <a:prstGeom prst="downArrow">
            <a:avLst>
              <a:gd name="adj1" fmla="val 50000"/>
              <a:gd name="adj2" fmla="val 1225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34120" y="304920"/>
            <a:ext cx="3504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جسم بين البؤرة والمركز (صفر&lt;س&lt;ع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 rot="228000">
            <a:off x="4952880" y="5638680"/>
            <a:ext cx="3810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استخدام : مجهر بسي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1905120"/>
            <a:ext cx="251460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267080" y="1371600"/>
            <a:ext cx="2210040" cy="13716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33520" y="457200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نقر هنا لعرض فيديو توضيح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228600"/>
            <a:ext cx="472428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صورة:-  معتدلة ، مكبرة ، خي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10666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وازي للمحور ينكسر مارا في البؤ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403848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قادم من اتجاه البؤرة ينكسر موازيا للمح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7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038480" y="1371600"/>
          <a:ext cx="5810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371600"/>
                    <a:ext cx="5810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 flipH="1">
            <a:off x="456840" y="3352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14479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267080" y="2057400"/>
            <a:ext cx="38102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971800" y="533160"/>
            <a:ext cx="1295280" cy="1523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419720" y="457200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33160" y="3352680"/>
            <a:ext cx="3733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343400" y="3352680"/>
            <a:ext cx="3733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419360" y="3962520"/>
            <a:ext cx="3733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343400" y="2514600"/>
            <a:ext cx="3733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285640" y="4572000"/>
            <a:ext cx="1981080" cy="1905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981080" y="3962520"/>
            <a:ext cx="228600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2133360" y="1219320"/>
            <a:ext cx="205740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8672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172200" y="464832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نقر هنا لعرض فيديو توضيح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304920"/>
            <a:ext cx="2971800" cy="10688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عدسة المقع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4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500"/>
                            </p:stCondLst>
                            <p:childTnLst>
                              <p:par>
                                <p:cTn id="39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5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09:54:40Z</dcterms:created>
  <dc:creator>muayyad</dc:creator>
  <dc:description/>
  <dc:language>en-US</dc:language>
  <cp:lastModifiedBy>muayyad</cp:lastModifiedBy>
  <dcterms:modified xsi:type="dcterms:W3CDTF">2009-12-10T06:13:12Z</dcterms:modified>
  <cp:revision>60</cp:revision>
  <dc:subject/>
  <dc:title>لا يوجد عنوان للشريحة</dc:title>
</cp:coreProperties>
</file>