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65A-A5EE-415F-8C11-0DF65A04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A73-AB78-41BF-B468-0F9E3B2B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30D-2FC6-4D29-ADAC-FCDF006E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8E1-CB7B-4D7D-8DA9-7E1DF881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BF4-97FD-4EDE-BB23-D6653F15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BB5-E77E-4987-8001-29E18461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BE3-A8CC-4CF3-A7F6-879A25CE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8F7-D939-446C-BF5D-A3795AC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4B6-78AB-45DB-9B20-383F16E2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08F-AF67-420C-89CA-DC007394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2AD-1485-41EA-B6B1-91421CD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D17-811E-4E02-90A5-1A9EFD1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C444-B2D6-4726-8308-4D814BB77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8.xml"/><Relationship Id="rId10" Type="http://schemas.openxmlformats.org/officeDocument/2006/relationships/slide" Target="slide4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52280"/>
            <a:ext cx="46483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</a:rPr>
              <a:t>المرايا المحدبة والمقع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6095880" y="1828800"/>
            <a:ext cx="2743200" cy="762120"/>
          </a:xfrm>
          <a:custGeom>
            <a:avLst/>
            <a:gdLst>
              <a:gd name="textAreaLeft" fmla="*/ 49320 w 2743200"/>
              <a:gd name="textAreaRight" fmla="*/ 2693880 w 274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لمرآة المقعر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6095880" y="3048120"/>
            <a:ext cx="2743200" cy="761760"/>
          </a:xfrm>
          <a:custGeom>
            <a:avLst/>
            <a:gdLst>
              <a:gd name="textAreaLeft" fmla="*/ 49320 w 2743200"/>
              <a:gd name="textAreaRight" fmla="*/ 2693880 w 27432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77758" h="21600">
                <a:moveTo>
                  <a:pt x="0" y="0"/>
                </a:moveTo>
                <a:lnTo>
                  <a:pt x="77758" y="0"/>
                </a:lnTo>
                <a:lnTo>
                  <a:pt x="77758" y="21600"/>
                </a:lnTo>
                <a:lnTo>
                  <a:pt x="0" y="21600"/>
                </a:lnTo>
                <a:close/>
              </a:path>
              <a:path fill="lightenLess" w="77758" h="21600">
                <a:moveTo>
                  <a:pt x="0" y="0"/>
                </a:moveTo>
                <a:lnTo>
                  <a:pt x="77758" y="0"/>
                </a:lnTo>
                <a:lnTo>
                  <a:pt x="76358" y="1400"/>
                </a:lnTo>
                <a:lnTo>
                  <a:pt x="1400" y="1400"/>
                </a:lnTo>
                <a:close/>
              </a:path>
              <a:path fill="darken" w="77758" h="21600">
                <a:moveTo>
                  <a:pt x="77758" y="0"/>
                </a:moveTo>
                <a:lnTo>
                  <a:pt x="77758" y="21600"/>
                </a:lnTo>
                <a:lnTo>
                  <a:pt x="76358" y="20200"/>
                </a:lnTo>
                <a:lnTo>
                  <a:pt x="76358" y="1400"/>
                </a:lnTo>
                <a:close/>
              </a:path>
              <a:path fill="darkenLess" w="77758" h="21600">
                <a:moveTo>
                  <a:pt x="77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58" y="20200"/>
                </a:lnTo>
                <a:close/>
              </a:path>
              <a:path fill="lighten" w="77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لمرآة المقعر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6095880" y="5334120"/>
            <a:ext cx="2743200" cy="685800"/>
          </a:xfrm>
          <a:custGeom>
            <a:avLst/>
            <a:gdLst>
              <a:gd name="textAreaLeft" fmla="*/ 44280 w 2743200"/>
              <a:gd name="textAreaRight" fmla="*/ 2698920 w 2743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6366" h="21600">
                <a:moveTo>
                  <a:pt x="0" y="0"/>
                </a:moveTo>
                <a:lnTo>
                  <a:pt x="86366" y="0"/>
                </a:lnTo>
                <a:lnTo>
                  <a:pt x="86366" y="21600"/>
                </a:lnTo>
                <a:lnTo>
                  <a:pt x="0" y="21600"/>
                </a:lnTo>
                <a:close/>
              </a:path>
              <a:path fill="lightenLess" w="86366" h="21600">
                <a:moveTo>
                  <a:pt x="0" y="0"/>
                </a:moveTo>
                <a:lnTo>
                  <a:pt x="86366" y="0"/>
                </a:lnTo>
                <a:lnTo>
                  <a:pt x="84966" y="1400"/>
                </a:lnTo>
                <a:lnTo>
                  <a:pt x="1400" y="1400"/>
                </a:lnTo>
                <a:close/>
              </a:path>
              <a:path fill="darken" w="86366" h="21600">
                <a:moveTo>
                  <a:pt x="86366" y="0"/>
                </a:moveTo>
                <a:lnTo>
                  <a:pt x="86366" y="21600"/>
                </a:lnTo>
                <a:lnTo>
                  <a:pt x="84966" y="20200"/>
                </a:lnTo>
                <a:lnTo>
                  <a:pt x="84966" y="1400"/>
                </a:lnTo>
                <a:close/>
              </a:path>
              <a:path fill="darkenLess" w="86366" h="21600">
                <a:moveTo>
                  <a:pt x="86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6" y="20200"/>
                </a:lnTo>
                <a:close/>
              </a:path>
              <a:path fill="lighten" w="86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جسم في المرك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3352680" y="182880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بين البؤرة والمرك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352680" y="3048120"/>
            <a:ext cx="2133720" cy="76176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0484" h="21600">
                <a:moveTo>
                  <a:pt x="0" y="0"/>
                </a:moveTo>
                <a:lnTo>
                  <a:pt x="60484" y="0"/>
                </a:lnTo>
                <a:lnTo>
                  <a:pt x="60484" y="21600"/>
                </a:lnTo>
                <a:lnTo>
                  <a:pt x="0" y="21600"/>
                </a:lnTo>
                <a:close/>
              </a:path>
              <a:path fill="lightenLess" w="60484" h="21600">
                <a:moveTo>
                  <a:pt x="0" y="0"/>
                </a:moveTo>
                <a:lnTo>
                  <a:pt x="60484" y="0"/>
                </a:lnTo>
                <a:lnTo>
                  <a:pt x="59084" y="1400"/>
                </a:lnTo>
                <a:lnTo>
                  <a:pt x="1400" y="1400"/>
                </a:lnTo>
                <a:close/>
              </a:path>
              <a:path fill="darken" w="60484" h="21600">
                <a:moveTo>
                  <a:pt x="60484" y="0"/>
                </a:moveTo>
                <a:lnTo>
                  <a:pt x="60484" y="21600"/>
                </a:lnTo>
                <a:lnTo>
                  <a:pt x="59084" y="20200"/>
                </a:lnTo>
                <a:lnTo>
                  <a:pt x="59084" y="1400"/>
                </a:lnTo>
                <a:close/>
              </a:path>
              <a:path fill="darkenLess" w="60484" h="21600">
                <a:moveTo>
                  <a:pt x="60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84" y="20200"/>
                </a:lnTo>
                <a:close/>
              </a:path>
              <a:path fill="lighten" w="60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في البؤ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609480" y="182880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مرآة المحدب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609480" y="3048120"/>
            <a:ext cx="2133720" cy="76176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0484" h="21600">
                <a:moveTo>
                  <a:pt x="0" y="0"/>
                </a:moveTo>
                <a:lnTo>
                  <a:pt x="60484" y="0"/>
                </a:lnTo>
                <a:lnTo>
                  <a:pt x="60484" y="21600"/>
                </a:lnTo>
                <a:lnTo>
                  <a:pt x="0" y="21600"/>
                </a:lnTo>
                <a:close/>
              </a:path>
              <a:path fill="lightenLess" w="60484" h="21600">
                <a:moveTo>
                  <a:pt x="0" y="0"/>
                </a:moveTo>
                <a:lnTo>
                  <a:pt x="60484" y="0"/>
                </a:lnTo>
                <a:lnTo>
                  <a:pt x="59084" y="1400"/>
                </a:lnTo>
                <a:lnTo>
                  <a:pt x="1400" y="1400"/>
                </a:lnTo>
                <a:close/>
              </a:path>
              <a:path fill="darken" w="60484" h="21600">
                <a:moveTo>
                  <a:pt x="60484" y="0"/>
                </a:moveTo>
                <a:lnTo>
                  <a:pt x="60484" y="21600"/>
                </a:lnTo>
                <a:lnTo>
                  <a:pt x="59084" y="20200"/>
                </a:lnTo>
                <a:lnTo>
                  <a:pt x="59084" y="1400"/>
                </a:lnTo>
                <a:close/>
              </a:path>
              <a:path fill="darkenLess" w="60484" h="21600">
                <a:moveTo>
                  <a:pt x="60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84" y="20200"/>
                </a:lnTo>
                <a:close/>
              </a:path>
              <a:path fill="lighten" w="60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مرآة المحدب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609480" y="434340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صور المرآة المحدب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3352680" y="434340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بين البؤرة والمرآ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6095880" y="4267080"/>
            <a:ext cx="2743200" cy="685800"/>
          </a:xfrm>
          <a:custGeom>
            <a:avLst/>
            <a:gdLst>
              <a:gd name="textAreaLeft" fmla="*/ 44280 w 2743200"/>
              <a:gd name="textAreaRight" fmla="*/ 2698920 w 2743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6366" h="21600">
                <a:moveTo>
                  <a:pt x="0" y="0"/>
                </a:moveTo>
                <a:lnTo>
                  <a:pt x="86366" y="0"/>
                </a:lnTo>
                <a:lnTo>
                  <a:pt x="86366" y="21600"/>
                </a:lnTo>
                <a:lnTo>
                  <a:pt x="0" y="21600"/>
                </a:lnTo>
                <a:close/>
              </a:path>
              <a:path fill="lightenLess" w="86366" h="21600">
                <a:moveTo>
                  <a:pt x="0" y="0"/>
                </a:moveTo>
                <a:lnTo>
                  <a:pt x="86366" y="0"/>
                </a:lnTo>
                <a:lnTo>
                  <a:pt x="84966" y="1400"/>
                </a:lnTo>
                <a:lnTo>
                  <a:pt x="1400" y="1400"/>
                </a:lnTo>
                <a:close/>
              </a:path>
              <a:path fill="darken" w="86366" h="21600">
                <a:moveTo>
                  <a:pt x="86366" y="0"/>
                </a:moveTo>
                <a:lnTo>
                  <a:pt x="86366" y="21600"/>
                </a:lnTo>
                <a:lnTo>
                  <a:pt x="84966" y="20200"/>
                </a:lnTo>
                <a:lnTo>
                  <a:pt x="84966" y="1400"/>
                </a:lnTo>
                <a:close/>
              </a:path>
              <a:path fill="darkenLess" w="86366" h="21600">
                <a:moveTo>
                  <a:pt x="86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6" y="20200"/>
                </a:lnTo>
                <a:close/>
              </a:path>
              <a:path fill="lighten" w="86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لجسم بع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8380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نقر على الموضوع الذي ترغب في اجراء عرض توضيحي له </a:t>
            </a:r>
            <a:r>
              <a:rPr b="0" lang="hi-IN" sz="2400" spc="-1" strike="noStrike">
                <a:solidFill>
                  <a:srgbClr val="3333cc"/>
                </a:solidFill>
                <a:latin typeface="Times New Roman"/>
              </a:rPr>
              <a:t>وللرجوع الى القائمة الرئيسية اضغط على زر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العناوين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609480" y="548640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صور المرآة المحدب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962520" y="762120"/>
          <a:ext cx="9284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762120"/>
                    <a:ext cx="928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>
            <a:off x="685800" y="3429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4800600"/>
            <a:ext cx="2362320" cy="1523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647960" y="480060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647960" y="220968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4114800"/>
            <a:ext cx="3124080" cy="10666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42900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648320" y="1828800"/>
            <a:ext cx="2666880" cy="9907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495680" y="838080"/>
            <a:ext cx="2057400" cy="1371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800600" y="411480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800600" y="281952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724280" y="3429000"/>
            <a:ext cx="23623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352680"/>
            <a:ext cx="30456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590560" y="2209680"/>
            <a:ext cx="1904760" cy="12193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37920" y="2819520"/>
            <a:ext cx="2210040" cy="6858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514240" y="3428640"/>
            <a:ext cx="2133720" cy="6858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514240" y="3429000"/>
            <a:ext cx="1981080" cy="1371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04920"/>
            <a:ext cx="8534160" cy="94716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مبدأ ارتداد الضوء: الاشعة المتجهة نحو البؤرة تنعكس موازية للمحو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828440" y="3429000"/>
            <a:ext cx="28954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500"/>
                            </p:stCondLst>
                            <p:childTnLst>
                              <p:par>
                                <p:cTn id="4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000"/>
                            </p:stCondLst>
                            <p:childTnLst>
                              <p:par>
                                <p:cTn id="4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362320" y="457200"/>
          <a:ext cx="9284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928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H="1">
            <a:off x="685440" y="3200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1219320"/>
            <a:ext cx="380880" cy="1981080"/>
          </a:xfrm>
          <a:prstGeom prst="upArrow">
            <a:avLst>
              <a:gd name="adj1" fmla="val 50000"/>
              <a:gd name="adj2" fmla="val 1300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42840" y="1219320"/>
            <a:ext cx="30481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43200" y="533160"/>
            <a:ext cx="45720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971800" y="1219320"/>
            <a:ext cx="2743200" cy="9144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2362320"/>
            <a:ext cx="2514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0845600">
            <a:off x="1906560" y="2361960"/>
            <a:ext cx="231840" cy="838080"/>
          </a:xfrm>
          <a:prstGeom prst="downArrow">
            <a:avLst>
              <a:gd name="adj1" fmla="val 50000"/>
              <a:gd name="adj2" fmla="val 903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048120" y="1600200"/>
            <a:ext cx="152388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048120" y="1219320"/>
            <a:ext cx="274320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09480" y="2133720"/>
            <a:ext cx="2362320" cy="6094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914040" y="2362320"/>
            <a:ext cx="20574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447920" y="1219320"/>
            <a:ext cx="1295280" cy="20574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33412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عتدلة ، مصغرة ، خي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228600"/>
            <a:ext cx="2971800" cy="1068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رآة المحد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609588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الشعاع الموازي للمحور ينعكس وكأنه قادم من البؤ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4724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تجه نحو البؤرة ينعكس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34290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تجه نحو المركز ينعكس مرتدا على نفس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362320" y="457200"/>
          <a:ext cx="9284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928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H="1">
            <a:off x="685440" y="3200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219320"/>
            <a:ext cx="380880" cy="1981080"/>
          </a:xfrm>
          <a:prstGeom prst="upArrow">
            <a:avLst>
              <a:gd name="adj1" fmla="val 50000"/>
              <a:gd name="adj2" fmla="val 1300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743200" y="1219320"/>
            <a:ext cx="5867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743200" y="533160"/>
            <a:ext cx="45720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123720" y="1295280"/>
            <a:ext cx="5410440" cy="1905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2362320"/>
            <a:ext cx="4952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45600">
            <a:off x="1906560" y="2361960"/>
            <a:ext cx="231840" cy="838080"/>
          </a:xfrm>
          <a:prstGeom prst="downArrow">
            <a:avLst>
              <a:gd name="adj1" fmla="val 50000"/>
              <a:gd name="adj2" fmla="val 903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3200400"/>
            <a:ext cx="1447920" cy="121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048120" y="1295280"/>
            <a:ext cx="5410080" cy="1067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1523520" y="1980720"/>
            <a:ext cx="1600200" cy="12193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914040" y="2362320"/>
            <a:ext cx="20574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47920" y="1219320"/>
            <a:ext cx="1295280" cy="20574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رآة المحدبة (الجسم في موضع آخ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541008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عتدلة ، مصغرة ، خي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4290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تجه نحو القطب ينعكس بنفس زاوية السقو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5720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تجه نحو البؤرة ينعكس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624852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الشعاع الموازي للمحور ينعكس وكأنه قادم من البؤ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191120" y="609480"/>
          <a:ext cx="914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609480"/>
                    <a:ext cx="914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H="1">
            <a:off x="685800" y="3429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1981080"/>
            <a:ext cx="4267080" cy="2819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495680" y="480060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495680" y="220968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419720" y="2743200"/>
            <a:ext cx="4419360" cy="1447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42900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819520"/>
            <a:ext cx="4724280" cy="129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209680"/>
            <a:ext cx="4114800" cy="2438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411480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419720" y="2819520"/>
            <a:ext cx="2743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343400" y="3429000"/>
            <a:ext cx="23623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3352680"/>
            <a:ext cx="30492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533520"/>
            <a:ext cx="6477120" cy="10688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اشعة الموازية للمحور تنعكس مارة بالبؤ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191120" y="609480"/>
          <a:ext cx="914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609480"/>
                    <a:ext cx="914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H="1">
            <a:off x="685800" y="3429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981080"/>
            <a:ext cx="4267080" cy="2819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495680" y="480060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495680" y="220968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19720" y="2743200"/>
            <a:ext cx="4419360" cy="14479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429000"/>
            <a:ext cx="3733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2819520"/>
            <a:ext cx="419076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2209680"/>
            <a:ext cx="3200400" cy="19051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19360" y="411480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419720" y="2819520"/>
            <a:ext cx="274320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343400" y="3429000"/>
            <a:ext cx="23623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3352680"/>
            <a:ext cx="30492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مبدأ ارتداد الضوء: الاشعة القادمة من البؤرة تنعكس موازية للمحو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533520" y="380880"/>
          <a:ext cx="914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914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H="1">
            <a:off x="685440" y="3200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1600200"/>
            <a:ext cx="304920" cy="1600200"/>
          </a:xfrm>
          <a:prstGeom prst="upArrow">
            <a:avLst>
              <a:gd name="adj1" fmla="val 50000"/>
              <a:gd name="adj2" fmla="val 13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914040" y="1600200"/>
            <a:ext cx="289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600200"/>
            <a:ext cx="1523880" cy="3886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5800" y="1600200"/>
            <a:ext cx="3124080" cy="2209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809880"/>
            <a:ext cx="3429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2004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200400"/>
            <a:ext cx="3200400" cy="1905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37720" y="1676520"/>
            <a:ext cx="2971800" cy="312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85800" y="1600200"/>
            <a:ext cx="3124080" cy="1600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38080" y="2590920"/>
            <a:ext cx="2133720" cy="2209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قلوبة ، مصغرة ،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562720" y="30492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بعيد (س&gt; نق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عكس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55627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في البؤرة ينعكس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9625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ساقط على القطب ينعكس بنفس زاوية السقو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33520" y="380880"/>
          <a:ext cx="914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914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H="1">
            <a:off x="685440" y="3200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600200"/>
            <a:ext cx="304920" cy="1600200"/>
          </a:xfrm>
          <a:prstGeom prst="upArrow">
            <a:avLst>
              <a:gd name="adj1" fmla="val 50000"/>
              <a:gd name="adj2" fmla="val 13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14040" y="1600200"/>
            <a:ext cx="289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600200"/>
            <a:ext cx="4419720" cy="4876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37720" y="1600200"/>
            <a:ext cx="2971800" cy="3352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876920"/>
            <a:ext cx="50292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200400"/>
            <a:ext cx="304920" cy="1676520"/>
          </a:xfrm>
          <a:prstGeom prst="downArrow">
            <a:avLst>
              <a:gd name="adj1" fmla="val 50000"/>
              <a:gd name="adj2" fmla="val 1374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200400"/>
            <a:ext cx="4800600" cy="2666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5800" y="1600200"/>
            <a:ext cx="3124080" cy="1600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0492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قلوبة ، مساوية ،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57800" y="2286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في المركز (س= نق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عكس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9810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ساقط على القطب ينعكس بنفس زاوية السقو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352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في البؤرة ينعكس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33520" y="380880"/>
          <a:ext cx="914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914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H="1">
            <a:off x="685440" y="3200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666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440" y="2666880"/>
            <a:ext cx="25909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666880"/>
            <a:ext cx="7010280" cy="2362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61760" y="2666880"/>
            <a:ext cx="2438280" cy="1600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267080"/>
            <a:ext cx="7086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320040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295280"/>
            <a:ext cx="6858000" cy="4419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990720" y="1295280"/>
            <a:ext cx="213336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قلوبة ، مكبرة ،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4120" y="22860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بين البؤرة والمركز (ع&lt; س&lt;نق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11430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عكس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5638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في البؤرة ينعكس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05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533520" y="380880"/>
          <a:ext cx="914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914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H="1">
            <a:off x="685440" y="3200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4382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85800" y="243828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2514600"/>
            <a:ext cx="5257800" cy="2133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838080" y="1752120"/>
            <a:ext cx="1524240" cy="685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438280"/>
            <a:ext cx="4572000" cy="17528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200400"/>
            <a:ext cx="4800600" cy="1981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85440" y="2514600"/>
            <a:ext cx="167652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04920"/>
            <a:ext cx="4724280" cy="13737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هنا لا تتكون صورة لان الاشعة المنكسرة لا تتقا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304920"/>
            <a:ext cx="320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في البؤرة (س=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267080" y="5867280"/>
            <a:ext cx="4114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يستخدم ذلك في الكشافات الضوئي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666880" y="609480"/>
          <a:ext cx="914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609480"/>
                    <a:ext cx="914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 flipH="1">
            <a:off x="685440" y="3200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24382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819160" y="2438280"/>
            <a:ext cx="99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124080"/>
            <a:ext cx="22860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2438280"/>
            <a:ext cx="8380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71440" y="1905120"/>
            <a:ext cx="76212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1905120"/>
            <a:ext cx="3581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45600">
            <a:off x="2055240" y="1904760"/>
            <a:ext cx="231480" cy="1295280"/>
          </a:xfrm>
          <a:prstGeom prst="downArrow">
            <a:avLst>
              <a:gd name="adj1" fmla="val 50000"/>
              <a:gd name="adj2" fmla="val 1398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2133720"/>
            <a:ext cx="5562720" cy="1600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95480" y="2133720"/>
            <a:ext cx="99072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294920" y="1905120"/>
            <a:ext cx="1600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294920" y="1371600"/>
            <a:ext cx="1600200" cy="9907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600200"/>
            <a:ext cx="1905120" cy="5335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2438280"/>
            <a:ext cx="838440" cy="6858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عتدلة ، مكبرة ، خي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410080" y="22860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بين البؤرة والمرآة (صفر&lt;س&lt;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12193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عكس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38098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قادم من اتجاه البؤرة ينعكس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 rot="228000">
            <a:off x="4800600" y="571500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استخدام : مرآة الحلاق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2438280"/>
            <a:ext cx="2743200" cy="7621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19051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قادم من اتجاه المركز ينعكس مرتدا على نفس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962520" y="762120"/>
          <a:ext cx="9284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762120"/>
                    <a:ext cx="928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H="1">
            <a:off x="685800" y="3429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800600"/>
            <a:ext cx="2362320" cy="1523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47960" y="480060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7960" y="220968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114800"/>
            <a:ext cx="312408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42900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48320" y="1828800"/>
            <a:ext cx="26668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95680" y="838080"/>
            <a:ext cx="2057400" cy="1371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411480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800600" y="281952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24280" y="3429000"/>
            <a:ext cx="23623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352680"/>
            <a:ext cx="30456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590560" y="2209680"/>
            <a:ext cx="1904760" cy="12193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37920" y="2819520"/>
            <a:ext cx="2210040" cy="6858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514240" y="3428640"/>
            <a:ext cx="2133720" cy="6858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514240" y="3429000"/>
            <a:ext cx="1981080" cy="1371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304920"/>
            <a:ext cx="6477120" cy="10688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اشعة الموازية للمحور تنعكس وكأنها قادمة من البؤ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057040" y="3429000"/>
            <a:ext cx="2590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628488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500"/>
                            </p:stCondLst>
                            <p:childTnLst>
                              <p:par>
                                <p:cTn id="3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8:12:33Z</dcterms:created>
  <dc:creator>muayyad</dc:creator>
  <dc:description/>
  <dc:language>en-US</dc:language>
  <cp:lastModifiedBy>muayyad</cp:lastModifiedBy>
  <dcterms:modified xsi:type="dcterms:W3CDTF">2003-02-10T06:26:30Z</dcterms:modified>
  <cp:revision>38</cp:revision>
  <dc:subject/>
  <dc:title>لا يوجد عنوان للشريحة</dc:title>
</cp:coreProperties>
</file>