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9D6-FB27-4603-A43B-9D648A4A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957-CE2D-4CF3-A8B8-7698FB09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E16-DCF9-4136-9CD0-B684A9A7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825-884E-42D3-A9A5-304400EA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4A0-2D63-4739-A69E-9777CF57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FAD-A50F-44D5-B62C-5A5E0141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30F-58CA-4995-9D6F-964CF50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3E1-2FCC-4C98-961D-5C5462F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8DE-D67B-46A0-958D-714B1324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521-DE89-4DCD-B3A1-8F1158A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363-4552-44F2-87FE-C01A7B6D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C59-7776-47AB-91F0-36DD4963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64C3-4841-4B0A-8CC2-015E0FB7513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52280"/>
            <a:ext cx="46483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عدسات المحدبة والمقعرة والمناش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2819520"/>
            <a:ext cx="3124080" cy="761760"/>
          </a:xfrm>
          <a:custGeom>
            <a:avLst/>
            <a:gdLst>
              <a:gd name="textAreaLeft" fmla="*/ 49320 w 3124080"/>
              <a:gd name="textAreaRight" fmla="*/ 3074760 w 3124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88553" h="21600">
                <a:moveTo>
                  <a:pt x="0" y="0"/>
                </a:moveTo>
                <a:lnTo>
                  <a:pt x="88553" y="0"/>
                </a:lnTo>
                <a:lnTo>
                  <a:pt x="88553" y="21600"/>
                </a:lnTo>
                <a:lnTo>
                  <a:pt x="0" y="21600"/>
                </a:lnTo>
                <a:close/>
              </a:path>
              <a:path fill="lightenLess" w="88553" h="21600">
                <a:moveTo>
                  <a:pt x="0" y="0"/>
                </a:moveTo>
                <a:lnTo>
                  <a:pt x="88553" y="0"/>
                </a:lnTo>
                <a:lnTo>
                  <a:pt x="87153" y="1400"/>
                </a:lnTo>
                <a:lnTo>
                  <a:pt x="1400" y="1400"/>
                </a:lnTo>
                <a:close/>
              </a:path>
              <a:path fill="darken" w="88553" h="21600">
                <a:moveTo>
                  <a:pt x="88553" y="0"/>
                </a:moveTo>
                <a:lnTo>
                  <a:pt x="88553" y="21600"/>
                </a:lnTo>
                <a:lnTo>
                  <a:pt x="87153" y="20200"/>
                </a:lnTo>
                <a:lnTo>
                  <a:pt x="87153" y="1400"/>
                </a:lnTo>
                <a:close/>
              </a:path>
              <a:path fill="darkenLess" w="88553" h="21600">
                <a:moveTo>
                  <a:pt x="88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53" y="20200"/>
                </a:lnTo>
                <a:close/>
              </a:path>
              <a:path fill="lighten" w="88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نشور الحارف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4191120"/>
            <a:ext cx="3124080" cy="761760"/>
          </a:xfrm>
          <a:custGeom>
            <a:avLst/>
            <a:gdLst>
              <a:gd name="textAreaLeft" fmla="*/ 49320 w 3124080"/>
              <a:gd name="textAreaRight" fmla="*/ 3074760 w 3124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88553" h="21600">
                <a:moveTo>
                  <a:pt x="0" y="0"/>
                </a:moveTo>
                <a:lnTo>
                  <a:pt x="88553" y="0"/>
                </a:lnTo>
                <a:lnTo>
                  <a:pt x="88553" y="21600"/>
                </a:lnTo>
                <a:lnTo>
                  <a:pt x="0" y="21600"/>
                </a:lnTo>
                <a:close/>
              </a:path>
              <a:path fill="lightenLess" w="88553" h="21600">
                <a:moveTo>
                  <a:pt x="0" y="0"/>
                </a:moveTo>
                <a:lnTo>
                  <a:pt x="88553" y="0"/>
                </a:lnTo>
                <a:lnTo>
                  <a:pt x="87153" y="1400"/>
                </a:lnTo>
                <a:lnTo>
                  <a:pt x="1400" y="1400"/>
                </a:lnTo>
                <a:close/>
              </a:path>
              <a:path fill="darken" w="88553" h="21600">
                <a:moveTo>
                  <a:pt x="88553" y="0"/>
                </a:moveTo>
                <a:lnTo>
                  <a:pt x="88553" y="21600"/>
                </a:lnTo>
                <a:lnTo>
                  <a:pt x="87153" y="20200"/>
                </a:lnTo>
                <a:lnTo>
                  <a:pt x="87153" y="1400"/>
                </a:lnTo>
                <a:close/>
              </a:path>
              <a:path fill="darkenLess" w="88553" h="21600">
                <a:moveTo>
                  <a:pt x="88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53" y="20200"/>
                </a:lnTo>
                <a:close/>
              </a:path>
              <a:path fill="lighten" w="88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حدب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5638680"/>
            <a:ext cx="3124080" cy="762120"/>
          </a:xfrm>
          <a:custGeom>
            <a:avLst/>
            <a:gdLst>
              <a:gd name="textAreaLeft" fmla="*/ 49320 w 3124080"/>
              <a:gd name="textAreaRight" fmla="*/ 3074760 w 3124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88511" h="21600">
                <a:moveTo>
                  <a:pt x="0" y="0"/>
                </a:moveTo>
                <a:lnTo>
                  <a:pt x="88511" y="0"/>
                </a:lnTo>
                <a:lnTo>
                  <a:pt x="88511" y="21600"/>
                </a:lnTo>
                <a:lnTo>
                  <a:pt x="0" y="21600"/>
                </a:lnTo>
                <a:close/>
              </a:path>
              <a:path fill="lightenLess" w="88511" h="21600">
                <a:moveTo>
                  <a:pt x="0" y="0"/>
                </a:moveTo>
                <a:lnTo>
                  <a:pt x="88511" y="0"/>
                </a:lnTo>
                <a:lnTo>
                  <a:pt x="87111" y="1400"/>
                </a:lnTo>
                <a:lnTo>
                  <a:pt x="1400" y="1400"/>
                </a:lnTo>
                <a:close/>
              </a:path>
              <a:path fill="darken" w="88511" h="21600">
                <a:moveTo>
                  <a:pt x="88511" y="0"/>
                </a:moveTo>
                <a:lnTo>
                  <a:pt x="88511" y="21600"/>
                </a:lnTo>
                <a:lnTo>
                  <a:pt x="87111" y="20200"/>
                </a:lnTo>
                <a:lnTo>
                  <a:pt x="87111" y="1400"/>
                </a:lnTo>
                <a:close/>
              </a:path>
              <a:path fill="darkenLess" w="88511" h="21600">
                <a:moveTo>
                  <a:pt x="88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11" y="20200"/>
                </a:lnTo>
                <a:close/>
              </a:path>
              <a:path fill="lighten" w="88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دسة المحدب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600200"/>
            <a:ext cx="3124080" cy="762120"/>
          </a:xfrm>
          <a:custGeom>
            <a:avLst/>
            <a:gdLst>
              <a:gd name="textAreaLeft" fmla="*/ 49320 w 3124080"/>
              <a:gd name="textAreaRight" fmla="*/ 3074760 w 3124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88511" h="21600">
                <a:moveTo>
                  <a:pt x="0" y="0"/>
                </a:moveTo>
                <a:lnTo>
                  <a:pt x="88511" y="0"/>
                </a:lnTo>
                <a:lnTo>
                  <a:pt x="88511" y="21600"/>
                </a:lnTo>
                <a:lnTo>
                  <a:pt x="0" y="21600"/>
                </a:lnTo>
                <a:close/>
              </a:path>
              <a:path fill="lightenLess" w="88511" h="21600">
                <a:moveTo>
                  <a:pt x="0" y="0"/>
                </a:moveTo>
                <a:lnTo>
                  <a:pt x="88511" y="0"/>
                </a:lnTo>
                <a:lnTo>
                  <a:pt x="87111" y="1400"/>
                </a:lnTo>
                <a:lnTo>
                  <a:pt x="1400" y="1400"/>
                </a:lnTo>
                <a:close/>
              </a:path>
              <a:path fill="darken" w="88511" h="21600">
                <a:moveTo>
                  <a:pt x="88511" y="0"/>
                </a:moveTo>
                <a:lnTo>
                  <a:pt x="88511" y="21600"/>
                </a:lnTo>
                <a:lnTo>
                  <a:pt x="87111" y="20200"/>
                </a:lnTo>
                <a:lnTo>
                  <a:pt x="87111" y="1400"/>
                </a:lnTo>
                <a:close/>
              </a:path>
              <a:path fill="darkenLess" w="88511" h="21600">
                <a:moveTo>
                  <a:pt x="88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11" y="20200"/>
                </a:lnTo>
                <a:close/>
              </a:path>
              <a:path fill="lighten" w="88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نشور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حارف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6477120" y="2819520"/>
            <a:ext cx="2133360" cy="761760"/>
          </a:xfrm>
          <a:custGeom>
            <a:avLst/>
            <a:gdLst>
              <a:gd name="textAreaLeft" fmla="*/ 49320 w 2133360"/>
              <a:gd name="textAreaRight" fmla="*/ 2084040 w 2133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74" h="21600">
                <a:moveTo>
                  <a:pt x="0" y="0"/>
                </a:moveTo>
                <a:lnTo>
                  <a:pt x="60474" y="0"/>
                </a:lnTo>
                <a:lnTo>
                  <a:pt x="60474" y="21600"/>
                </a:lnTo>
                <a:lnTo>
                  <a:pt x="0" y="21600"/>
                </a:lnTo>
                <a:close/>
              </a:path>
              <a:path fill="lightenLess" w="60474" h="21600">
                <a:moveTo>
                  <a:pt x="0" y="0"/>
                </a:moveTo>
                <a:lnTo>
                  <a:pt x="60474" y="0"/>
                </a:lnTo>
                <a:lnTo>
                  <a:pt x="59074" y="1400"/>
                </a:lnTo>
                <a:lnTo>
                  <a:pt x="1400" y="1400"/>
                </a:lnTo>
                <a:close/>
              </a:path>
              <a:path fill="darken" w="60474" h="21600">
                <a:moveTo>
                  <a:pt x="60474" y="0"/>
                </a:moveTo>
                <a:lnTo>
                  <a:pt x="60474" y="21600"/>
                </a:lnTo>
                <a:lnTo>
                  <a:pt x="59074" y="20200"/>
                </a:lnTo>
                <a:lnTo>
                  <a:pt x="59074" y="1400"/>
                </a:lnTo>
                <a:close/>
              </a:path>
              <a:path fill="darkenLess" w="60474" h="21600">
                <a:moveTo>
                  <a:pt x="60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4" y="20200"/>
                </a:lnTo>
                <a:close/>
              </a:path>
              <a:path fill="lighten" w="60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لى ضعف البع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بؤ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6477120" y="4191120"/>
            <a:ext cx="2133360" cy="761760"/>
          </a:xfrm>
          <a:custGeom>
            <a:avLst/>
            <a:gdLst>
              <a:gd name="textAreaLeft" fmla="*/ 49320 w 2133360"/>
              <a:gd name="textAreaRight" fmla="*/ 2084040 w 2133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74" h="21600">
                <a:moveTo>
                  <a:pt x="0" y="0"/>
                </a:moveTo>
                <a:lnTo>
                  <a:pt x="60474" y="0"/>
                </a:lnTo>
                <a:lnTo>
                  <a:pt x="60474" y="21600"/>
                </a:lnTo>
                <a:lnTo>
                  <a:pt x="0" y="21600"/>
                </a:lnTo>
                <a:close/>
              </a:path>
              <a:path fill="lightenLess" w="60474" h="21600">
                <a:moveTo>
                  <a:pt x="0" y="0"/>
                </a:moveTo>
                <a:lnTo>
                  <a:pt x="60474" y="0"/>
                </a:lnTo>
                <a:lnTo>
                  <a:pt x="59074" y="1400"/>
                </a:lnTo>
                <a:lnTo>
                  <a:pt x="1400" y="1400"/>
                </a:lnTo>
                <a:close/>
              </a:path>
              <a:path fill="darken" w="60474" h="21600">
                <a:moveTo>
                  <a:pt x="60474" y="0"/>
                </a:moveTo>
                <a:lnTo>
                  <a:pt x="60474" y="21600"/>
                </a:lnTo>
                <a:lnTo>
                  <a:pt x="59074" y="20200"/>
                </a:lnTo>
                <a:lnTo>
                  <a:pt x="59074" y="1400"/>
                </a:lnTo>
                <a:close/>
              </a:path>
              <a:path fill="darkenLess" w="60474" h="21600">
                <a:moveTo>
                  <a:pt x="60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4" y="20200"/>
                </a:lnTo>
                <a:close/>
              </a:path>
              <a:path fill="lighten" w="60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ين البؤرة وضعف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5638680"/>
            <a:ext cx="2133360" cy="762120"/>
          </a:xfrm>
          <a:custGeom>
            <a:avLst/>
            <a:gdLst>
              <a:gd name="textAreaLeft" fmla="*/ 49320 w 2133360"/>
              <a:gd name="textAreaRight" fmla="*/ 2084040 w 2133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45" h="21600">
                <a:moveTo>
                  <a:pt x="0" y="0"/>
                </a:moveTo>
                <a:lnTo>
                  <a:pt x="60445" y="0"/>
                </a:lnTo>
                <a:lnTo>
                  <a:pt x="60445" y="21600"/>
                </a:lnTo>
                <a:lnTo>
                  <a:pt x="0" y="21600"/>
                </a:lnTo>
                <a:close/>
              </a:path>
              <a:path fill="lightenLess" w="60445" h="21600">
                <a:moveTo>
                  <a:pt x="0" y="0"/>
                </a:moveTo>
                <a:lnTo>
                  <a:pt x="60445" y="0"/>
                </a:lnTo>
                <a:lnTo>
                  <a:pt x="59045" y="1400"/>
                </a:lnTo>
                <a:lnTo>
                  <a:pt x="1400" y="1400"/>
                </a:lnTo>
                <a:close/>
              </a:path>
              <a:path fill="darken" w="60445" h="21600">
                <a:moveTo>
                  <a:pt x="60445" y="0"/>
                </a:moveTo>
                <a:lnTo>
                  <a:pt x="60445" y="21600"/>
                </a:lnTo>
                <a:lnTo>
                  <a:pt x="59045" y="20200"/>
                </a:lnTo>
                <a:lnTo>
                  <a:pt x="59045" y="1400"/>
                </a:lnTo>
                <a:close/>
              </a:path>
              <a:path fill="darkenLess" w="60445" h="21600">
                <a:moveTo>
                  <a:pt x="6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45" y="20200"/>
                </a:lnTo>
                <a:close/>
              </a:path>
              <a:path fill="lighten" w="6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البؤ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89548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26708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صور العدسة المقعر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63868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ين البؤرة والعد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477120" y="1600200"/>
            <a:ext cx="2133360" cy="685800"/>
          </a:xfrm>
          <a:custGeom>
            <a:avLst/>
            <a:gdLst>
              <a:gd name="textAreaLeft" fmla="*/ 44280 w 2133360"/>
              <a:gd name="textAreaRight" fmla="*/ 2089080 w 2133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7169" h="21600">
                <a:moveTo>
                  <a:pt x="0" y="0"/>
                </a:moveTo>
                <a:lnTo>
                  <a:pt x="67169" y="0"/>
                </a:lnTo>
                <a:lnTo>
                  <a:pt x="67169" y="21600"/>
                </a:lnTo>
                <a:lnTo>
                  <a:pt x="0" y="21600"/>
                </a:lnTo>
                <a:close/>
              </a:path>
              <a:path fill="lightenLess" w="67169" h="21600">
                <a:moveTo>
                  <a:pt x="0" y="0"/>
                </a:moveTo>
                <a:lnTo>
                  <a:pt x="67169" y="0"/>
                </a:lnTo>
                <a:lnTo>
                  <a:pt x="65769" y="1400"/>
                </a:lnTo>
                <a:lnTo>
                  <a:pt x="1400" y="1400"/>
                </a:lnTo>
                <a:close/>
              </a:path>
              <a:path fill="darken" w="67169" h="21600">
                <a:moveTo>
                  <a:pt x="67169" y="0"/>
                </a:moveTo>
                <a:lnTo>
                  <a:pt x="67169" y="21600"/>
                </a:lnTo>
                <a:lnTo>
                  <a:pt x="65769" y="20200"/>
                </a:lnTo>
                <a:lnTo>
                  <a:pt x="65769" y="1400"/>
                </a:lnTo>
                <a:close/>
              </a:path>
              <a:path fill="darkenLess" w="67169" h="21600">
                <a:moveTo>
                  <a:pt x="67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9" y="20200"/>
                </a:lnTo>
                <a:close/>
              </a:path>
              <a:path fill="lighten" w="67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جسم بع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9907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نقر على الموضوع الذي ترغب في اجراء عرض توضيحي 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038480" y="1371600"/>
          <a:ext cx="5810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58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67080" y="2057400"/>
            <a:ext cx="38102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971800" y="533160"/>
            <a:ext cx="1295280" cy="1523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19720" y="457200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33160" y="335268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343400" y="335268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19360" y="39625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343400" y="251460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85640" y="45720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981080" y="3962520"/>
            <a:ext cx="2286000" cy="1295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133360" y="1219320"/>
            <a:ext cx="2057400" cy="1295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3520" y="44956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30492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3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038480" y="1371600"/>
          <a:ext cx="5810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58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96080" y="1981080"/>
            <a:ext cx="457200" cy="13716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267080" y="205740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971800" y="533160"/>
            <a:ext cx="129528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33160" y="30481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267080" y="1981080"/>
            <a:ext cx="365760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711800">
            <a:off x="4952880" y="304776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80880" y="2057400"/>
            <a:ext cx="7467840" cy="2666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133720"/>
            <a:ext cx="1828800" cy="2514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048120"/>
            <a:ext cx="3124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410080" y="398160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943600" y="42670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8088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صغ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10666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وكأنه قادم من البؤ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4479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تجه نحو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30492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5867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5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038480" y="1371600"/>
          <a:ext cx="5810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58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362320"/>
            <a:ext cx="304920" cy="990360"/>
          </a:xfrm>
          <a:prstGeom prst="upArrow">
            <a:avLst>
              <a:gd name="adj1" fmla="val 50000"/>
              <a:gd name="adj2" fmla="val 8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267080" y="23623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971800" y="533520"/>
            <a:ext cx="13716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33160" y="30481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2362320"/>
            <a:ext cx="17528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0711800">
            <a:off x="4876560" y="3047400"/>
            <a:ext cx="75960" cy="306360"/>
          </a:xfrm>
          <a:prstGeom prst="downArrow">
            <a:avLst>
              <a:gd name="adj1" fmla="val 50000"/>
              <a:gd name="adj2" fmla="val 1008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142640" y="2362320"/>
            <a:ext cx="4876920" cy="297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2438280"/>
            <a:ext cx="1752480" cy="22100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3048120"/>
            <a:ext cx="3124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588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0492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38088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صغ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10666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وكأنه قادم من البؤ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4479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تجه نحو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4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6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400800" y="1219320"/>
            <a:ext cx="0" cy="28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743200" y="403848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43200" y="1219320"/>
            <a:ext cx="3657600" cy="28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72000" y="2590920"/>
            <a:ext cx="2743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2590920"/>
            <a:ext cx="0" cy="2819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1981080"/>
            <a:ext cx="1447920" cy="12193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9480" y="4572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228600"/>
            <a:ext cx="358164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منشور الحارف (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400800" y="1219320"/>
            <a:ext cx="0" cy="28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743200" y="403848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743200" y="1219320"/>
            <a:ext cx="3657600" cy="28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685800"/>
            <a:ext cx="1676520" cy="1828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343040" y="2514600"/>
            <a:ext cx="2057400" cy="1523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3429000"/>
            <a:ext cx="0" cy="1295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2514600"/>
            <a:ext cx="1523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666520" y="1980720"/>
            <a:ext cx="167652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722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609480"/>
            <a:ext cx="3581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منشور الحارف (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5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14800" y="24382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91120" y="28954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91120" y="33526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1120" y="38098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191120" y="42670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91120" y="47242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91120" y="1981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599840" y="2361960"/>
            <a:ext cx="259092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99840" y="2438280"/>
            <a:ext cx="2514600" cy="304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362320" y="1676520"/>
            <a:ext cx="1828800" cy="3047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33520" y="33526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66320" y="2895480"/>
            <a:ext cx="304812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09680" y="1905120"/>
            <a:ext cx="1981440" cy="3504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828800" y="1752120"/>
            <a:ext cx="236232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048120" cy="228600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143000" y="533520"/>
            <a:ext cx="6477120" cy="10688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اشعة الموازية للمحور تنكسر مارة بالبؤ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114800" y="24382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91120" y="28954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191120" y="33526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191120" y="38098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191120" y="42670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1120" y="47242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1981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599840" y="2361960"/>
            <a:ext cx="2590920" cy="1447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99840" y="2438280"/>
            <a:ext cx="2514600" cy="3048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362320" y="1676520"/>
            <a:ext cx="1828800" cy="3047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33520" y="335268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066320" y="2895480"/>
            <a:ext cx="3048120" cy="1752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209680" y="1905120"/>
            <a:ext cx="1981440" cy="35049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828800" y="1752120"/>
            <a:ext cx="2362320" cy="2514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مبدأ ارتداد الضوء: الاشعة القادمة من البؤرة تنكسر موازية للمحو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981080"/>
            <a:ext cx="457200" cy="13716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267080" y="205740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447560" y="2057400"/>
            <a:ext cx="2819160" cy="411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160" y="388620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67080" y="1981080"/>
            <a:ext cx="36576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35268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0880" y="2057400"/>
            <a:ext cx="7467840" cy="2819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22860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عيد (س&gt;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228000">
            <a:off x="5562360" y="601992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الكاميرا او الع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3392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981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57913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صغر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6576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981080"/>
            <a:ext cx="457200" cy="13716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66720" y="2057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447560" y="2057400"/>
            <a:ext cx="2819160" cy="411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33160" y="449568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266720" y="2057400"/>
            <a:ext cx="205740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35268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61760" y="2057400"/>
            <a:ext cx="5562360" cy="358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57800" y="2286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على ضعف البعد البؤري (س=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 rot="228000">
            <a:off x="5410080" y="6095880"/>
            <a:ext cx="35053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المرقاب الفلكي-لقلب الصو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35812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ساوي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981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57913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0757400">
            <a:off x="759960" y="3350880"/>
            <a:ext cx="381240" cy="1447920"/>
          </a:xfrm>
          <a:prstGeom prst="upArrow">
            <a:avLst>
              <a:gd name="adj1" fmla="val 50000"/>
              <a:gd name="adj2" fmla="val 94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7080" y="28195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8600" y="2819520"/>
            <a:ext cx="403848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8600" y="48006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267080" y="2819520"/>
            <a:ext cx="1371600" cy="19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4120" y="30492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ين البؤرة وضعفها (ع&lt; س&lt;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 rot="228000">
            <a:off x="609480" y="57150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القاذف الضوئ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"/>
          <p:cNvSpPr/>
          <p:nvPr/>
        </p:nvSpPr>
        <p:spPr>
          <a:xfrm rot="10791000">
            <a:off x="5562360" y="281880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5880" y="45720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قلوبة ، مكبرة ،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219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في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0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243828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67080" y="243828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62120" y="2438280"/>
            <a:ext cx="3504960" cy="3429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28440" y="2514600"/>
            <a:ext cx="3429000" cy="3429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38680" y="304920"/>
            <a:ext cx="32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في البؤرة (س=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0" y="5943600"/>
            <a:ext cx="4114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يستخدم ذلك في الكشافات الضوئي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248520" y="12952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28600"/>
            <a:ext cx="4724280" cy="13737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هنا لا تتكون صورة لان الاشعة المنكسرة لا تتقا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765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37339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ار بالمركز لا ينح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3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62520" y="1523880"/>
            <a:ext cx="533160" cy="373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7432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267080" y="27432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133720" y="2743200"/>
            <a:ext cx="213336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33160" y="19051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267080" y="1828800"/>
            <a:ext cx="53352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776000">
            <a:off x="5486040" y="1904400"/>
            <a:ext cx="295200" cy="1447560"/>
          </a:xfrm>
          <a:prstGeom prst="downArrow">
            <a:avLst>
              <a:gd name="adj1" fmla="val 50000"/>
              <a:gd name="adj2" fmla="val 122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4120" y="304920"/>
            <a:ext cx="350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جسم بين البؤرة والمركز (صفر&lt;س&lt;ع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 rot="228000">
            <a:off x="4952880" y="563868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استخدام : مجهر بسي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1905120"/>
            <a:ext cx="25146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267080" y="1371600"/>
            <a:ext cx="2210040" cy="1371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3520" y="457200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28600"/>
            <a:ext cx="47242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صورة:-  معتدلة ، مكبرة ، خي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066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موازي للمحور ينكسر مارا في البؤ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03848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شعاع القادم من اتجاه البؤرة ينكسر موازيا للمح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7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038480" y="1371600"/>
          <a:ext cx="5810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58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H="1">
            <a:off x="456840" y="3352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267080" y="2057400"/>
            <a:ext cx="3810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971800" y="533160"/>
            <a:ext cx="129528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19720" y="4572000"/>
            <a:ext cx="3657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33160" y="335268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343400" y="335268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419360" y="396252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343400" y="251460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285640" y="45720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81080" y="3962520"/>
            <a:ext cx="22860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133360" y="1219320"/>
            <a:ext cx="20574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172200" y="464832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نقر هنا لعرض فيديو توضيح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04920"/>
            <a:ext cx="2971800" cy="1068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عدسة ال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45720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عناو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9:54:40Z</dcterms:created>
  <dc:creator>muayyad</dc:creator>
  <dc:description/>
  <dc:language>en-US</dc:language>
  <cp:lastModifiedBy>muayyad</cp:lastModifiedBy>
  <dcterms:modified xsi:type="dcterms:W3CDTF">2009-12-10T06:13:12Z</dcterms:modified>
  <cp:revision>60</cp:revision>
  <dc:subject/>
  <dc:title>لا يوجد عنوان للشريحة</dc:title>
</cp:coreProperties>
</file>